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FB2-D94C-47B8-A70A-E03BAA8D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42E-5AE0-407F-A98D-D16B2F5E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CA5-45D8-477A-99AE-831FC05A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452-AC53-4340-89EF-0ADD1E2C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3BD2-E0C1-4015-B6DC-0FD0BB61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654-F7AF-4389-9DAD-05A29190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834-AA40-405A-8357-182DE223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9B45-84C0-4BF8-BFEC-BB733282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C6DB-A94F-4371-8159-CC4E4252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3843-804E-41A9-B2A2-3E872409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315-B495-4CAD-9356-5BB2CA86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D81-81BD-4F81-A340-96FC8A15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9FDF-AC7C-4F2D-80AE-CFCE380DC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cooper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cooper.edu/engineering/chemechem/general/cooper.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228600"/>
            <a:ext cx="7696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ll-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342900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entury Gothic"/>
              </a:rPr>
              <a:t>Bro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entury Gothic"/>
              </a:rPr>
              <a:t>March 8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entury Gothic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entury Gothic"/>
              </a:rPr>
              <a:t>Computer #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562720"/>
            <a:ext cx="4191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Clear, March 11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playmus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ooper"/>
          <p:cNvPicPr/>
          <p:nvPr/>
        </p:nvPicPr>
        <p:blipFill>
          <a:blip r:embed="rId1"/>
          <a:stretch/>
        </p:blipFill>
        <p:spPr>
          <a:xfrm>
            <a:off x="0" y="0"/>
            <a:ext cx="1981080" cy="2971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1981080"/>
            <a:ext cx="586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ll-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h 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oop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3049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Peter Cooper and his wife came up with the name for his delicious fruit-flavored dessert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294600" y="3429000"/>
            <a:ext cx="258264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486400"/>
            <a:ext cx="5943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 Cooper and His Legacy, Prof. Robert Q. Topper, March 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cooper.edu/engineering/chemechem/general/coop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7339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Peter Cooper was a man who donated money to worthy causes like museums and cha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elicio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ruit-flavored desse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made mainly of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elati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but includes many other ingredients as we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1906,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les reached about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$1,000,00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Peter Coo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ter Coo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New York 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ter Coo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born 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ebruary 12, 179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45,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ter Coo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tained the patent for the manufacture of </a:t>
            </a: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gelat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59,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ter Coo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ablished New York’s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oper Institute for the Advancement of Science and 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it is still up and running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ter Coo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pril 4, 18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ter Coo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d to b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9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s 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ter Coo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a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philanthrop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is someone who makes charitable donations intended to increase human well-be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14:53Z</dcterms:created>
  <dc:creator>install</dc:creator>
  <dc:description/>
  <dc:language>en-US</dc:language>
  <cp:lastModifiedBy>install</cp:lastModifiedBy>
  <dcterms:modified xsi:type="dcterms:W3CDTF">2010-03-18T13:41:13Z</dcterms:modified>
  <cp:revision>10</cp:revision>
  <dc:subject/>
  <dc:title>Slide 1</dc:title>
</cp:coreProperties>
</file>